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EFDB-24B9-4860-97E9-E87779044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D65-51AF-4F29-BD23-BDF0A719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F26-FA6A-4F53-A4B8-BCDD260E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B4C-DA52-4E35-96D4-35BD7783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A9C-1025-47BE-A344-4D8B509D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FF0A-94A1-47BB-9682-1F078B46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70B9-9D31-4DBC-B7E0-A7D1AC69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0DE0-98B1-4A0C-AF44-41FE7E5C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42A4-3C29-4571-882F-8C458A84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79D3-6CE4-4B85-BB1B-D0249506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4196-467C-40A0-B124-EA7792DB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4602-BE98-4D6C-AA37-2A8F15AF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829-E237-4BEA-95DE-8FBEE77E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46E2-CD3F-4001-B3BA-50A24DE6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C58D-18FD-41E3-9271-C6AD2C08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05B3-D94F-4958-9FA1-C43583BB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CA9C-D41B-46EC-A494-5A15C434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A4AB-64C8-4830-ADC1-F7585EB4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085-EF92-4552-AE6D-91281A9E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517-BA7C-46E3-A14B-38D02E1B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125-7DB2-4C9F-A6DC-5036ED95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83E-811F-46D9-ABA8-A46658A1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F82-D3B3-4F58-94DF-E3A30D89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E65-6D24-4324-8D82-AC5E48CA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243-650F-49AF-B8C6-749BA65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6837-375C-4A88-AEC5-A394BD4A0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C17B-32F8-446E-BDD9-D3A0837A2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8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RomaK</cp:lastModifiedBy>
  <dcterms:modified xsi:type="dcterms:W3CDTF">2015-09-04T10:37:44Z</dcterms:modified>
  <cp:revision>12</cp:revision>
  <dc:subject/>
  <dc:title>Poetry</dc:title>
</cp:coreProperties>
</file>